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9CD-98C9-49D2-BEFC-102E1A0A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A8A-6E09-410B-A140-1413BB71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F26-4EEC-4FCD-B100-95B39FF3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F86-A95B-49B4-9720-A8574F1E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BFF-5235-4A1B-AD6A-39FDD157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76D-6337-4620-B74E-483AC8E5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A70-52AA-4375-AC96-12F0FC37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08C-CFE7-43F6-8F31-3881B35F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FDB-9287-4719-8DDC-F26145C0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C0B-591E-4F01-B58B-5CBCA499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A58-2B17-479A-9AD9-97F282E0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CAE-D76C-4CC5-BE17-177A1187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D1BE-E473-4061-A2C2-33FB2EFA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124000" y="98100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解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251080" y="110808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78160" y="123516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05240" y="136224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浪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31960" y="148896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竹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759040" y="161604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竿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886120" y="174312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斜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32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华文楷体"/>
                <a:ea typeface="华文楷体"/>
              </a:rPr>
              <a:t>xiá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638520" y="2351160"/>
            <a:ext cx="1965240" cy="21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66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斜</a:t>
            </a:r>
            <a:endParaRPr b="0" lang="en-US" sz="6000" spc="-1" strike="noStrike">
              <a:ln w="0">
                <a:noFill/>
              </a:ln>
              <a:solidFill>
                <a:srgbClr val="ff0066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908000" y="692280"/>
            <a:ext cx="547380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解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落三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二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a.hiphotos.baidu.com/baike/c%3DbaikeA1%2C10%2C95/sign=332f8adf36d12f2eda05f93126a9b023/10dfa9ec8a1363272a13293b918fa0ec09fa513d2697e7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21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注释译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秋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农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月，指晚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：倾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390"/>
          <p:cNvSpPr/>
          <p:nvPr/>
        </p:nvSpPr>
        <p:spPr>
          <a:xfrm>
            <a:off x="826920" y="4724280"/>
            <a:ext cx="54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1670867_16113306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187280" y="4365720"/>
            <a:ext cx="77058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使树叶在晚秋时节掉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54b4d039c74cd0a255e72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14240" y="1285920"/>
            <a:ext cx="6408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能在早春二月时使百花盛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43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831610651969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28800" y="1143000"/>
            <a:ext cx="66722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吹过江面时会掀起千尺巨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ttp://picapi.ooopic.com/01/23/73/07b1OOOPIC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250920" y="549360"/>
            <a:ext cx="84643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方正隶书简体"/>
              </a:rPr>
              <a:t>吹入竹林时能使成千上万的竹子倾斜倒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051008korea10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571760" y="0"/>
            <a:ext cx="56242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398320" y="2428920"/>
            <a:ext cx="472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解落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三秋叶，能开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二月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42960" y="3429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江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千尺浪，入竹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万竿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57120" y="4857840"/>
            <a:ext cx="857268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首诗让人看到了风的力量，能使晚秋的树叶脱落，能催开早春二月的鲜花。它经过江河时能掀起千尺巨浪，刮进竹林时可把万棵翠竹吹得歪歪斜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de1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qbaobei.com/Uploads/Editor/2015-12-24/567ba9d91c8b4.jpg"/>
          <p:cNvPicPr/>
          <p:nvPr/>
        </p:nvPicPr>
        <p:blipFill>
          <a:blip r:embed="rId1"/>
          <a:stretch/>
        </p:blipFill>
        <p:spPr>
          <a:xfrm>
            <a:off x="34920" y="1909800"/>
            <a:ext cx="9036000" cy="49417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1"/>
          <p:cNvSpPr/>
          <p:nvPr/>
        </p:nvSpPr>
        <p:spPr>
          <a:xfrm>
            <a:off x="2700360" y="343080"/>
            <a:ext cx="6264360" cy="64260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b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年时，和爸爸妈妈一起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节童谣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253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3132000" y="971640"/>
            <a:ext cx="356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校  老师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厂  工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医院  医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军队  军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108000" y="298440"/>
            <a:ext cx="1401840" cy="14018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"/>
          <p:cNvSpPr/>
          <p:nvPr/>
        </p:nvSpPr>
        <p:spPr>
          <a:xfrm>
            <a:off x="1509840" y="836640"/>
            <a:ext cx="36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趣味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4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5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6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厂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1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2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工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7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8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医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3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4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院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9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1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76200" y="2034720"/>
            <a:ext cx="86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ōng   chǎng    yī</a:t>
            </a:r>
            <a:r>
              <a:rPr b="0" lang="zh-CN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  shē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156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1755720" cy="143172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2741400" y="692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073040" y="2001960"/>
            <a:ext cx="3415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果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树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加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办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旁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两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 也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四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学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468360" y="1125360"/>
            <a:ext cx="928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新年到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同学们，为你的家人和朋友写一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祝福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media.teeqee.com/game/img/461/b9468b3413605d1b1a8b6e306987dae5.jpg"/>
          <p:cNvPicPr/>
          <p:nvPr/>
        </p:nvPicPr>
        <p:blipFill>
          <a:blip r:embed="rId2"/>
          <a:stretch/>
        </p:blipFill>
        <p:spPr>
          <a:xfrm>
            <a:off x="-20520" y="0"/>
            <a:ext cx="9337680" cy="7101000"/>
          </a:xfrm>
          <a:prstGeom prst="rect">
            <a:avLst/>
          </a:prstGeom>
          <a:ln w="0">
            <a:noFill/>
          </a:ln>
        </p:spPr>
      </p:pic>
      <p:sp>
        <p:nvSpPr>
          <p:cNvPr id="92" name="矩形 921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578f57897a5c62b3a5c27233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62120" y="114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诗诵读时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0246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714680" y="357120"/>
            <a:ext cx="547344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《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黑体"/>
              </a:rPr>
              <a:t>风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》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解落三秋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能开二月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过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521460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李峤，唐朝著名的宫廷诗人，与杜审言、苏味道、崔融并称“文章四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jiě   luò  nénɡ  lànɡ  zhú   ɡān   xi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解   落    能     浪    竹     竿    斜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56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